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51827"/>
        <c:axId val="86670417"/>
      </c:barChart>
      <c:catAx>
        <c:axId val="43351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70417"/>
        <c:crosses val="autoZero"/>
        <c:auto val="1"/>
        <c:lblAlgn val="ctr"/>
        <c:lblOffset val="100"/>
        <c:noMultiLvlLbl val="0"/>
      </c:catAx>
      <c:valAx>
        <c:axId val="866704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51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CC61-1A0A-4F82-BE14-1D265169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FA0-D525-40CD-A14F-425B2AC2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A76-D721-49FB-8DDA-A49E3BE8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9E8-62DC-47A6-92EF-BBF210AD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2F4-371C-4BC8-A15B-BDCF2469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841-9F1C-4D0E-B848-EFACF469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CDE2-93E5-48A8-88A1-63C14CA3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797B-5315-45B2-8C1B-D507F89C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229F-4D65-46E6-8666-C3BE1A81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6AB-46E8-419B-9460-1917FCC9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7B7-6EE7-4DD3-8CD2-EF44FC5B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4D59-4168-45DA-ACF3-DE607A40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794E1-4B21-4FCB-AD9A-9C7231EB13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