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35581"/>
        <c:axId val="53585493"/>
      </c:barChart>
      <c:catAx>
        <c:axId val="5863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85493"/>
        <c:crosses val="autoZero"/>
        <c:auto val="1"/>
        <c:lblAlgn val="ctr"/>
        <c:lblOffset val="100"/>
        <c:noMultiLvlLbl val="0"/>
      </c:catAx>
      <c:valAx>
        <c:axId val="53585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761-B8F7-469A-89CA-ED605AE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840-2034-4B5A-9A4E-81B582E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B19-4D24-4915-B1AD-753522D8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B52-012B-4BDA-ABD5-ABA2CEA9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D82-2554-40E5-BD85-A12C26DA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90C-F45E-4971-93E9-6A55AC7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F0B-AD72-499E-9B53-6C3CBE7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2BC-A938-45B1-A917-72AC895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C1D-7840-426E-97D0-AADC0AE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A9E-811E-4716-8D0E-E6843E3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BAE-453A-42CF-9E43-C593FA8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31C-B3B5-45FC-95FF-3BFB25D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96B17-25D3-4D3F-B798-2742135BCF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