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9356"/>
        <c:axId val="52125477"/>
      </c:barChart>
      <c:catAx>
        <c:axId val="37793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125477"/>
        <c:crosses val="autoZero"/>
        <c:auto val="1"/>
        <c:lblAlgn val="ctr"/>
        <c:lblOffset val="100"/>
        <c:noMultiLvlLbl val="0"/>
      </c:catAx>
      <c:valAx>
        <c:axId val="52125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93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90B-D82F-450A-8966-CA8684FEC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B8E8-F8F8-4585-9BE2-B4B47B73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DAF8-0560-499B-96E2-C054AD88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AEA8-E577-41D4-AB1C-A5E1B1C51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2EDA-AAEF-42A7-895E-EC6994C1B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266A-766F-4DE3-9441-1E6CCB4D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E81A-29BA-49C3-8B1C-28A5AA87E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823F-0AF2-4062-A894-A2F5BE2C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B7F-763B-45D2-B3EF-C9130ED7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886-8770-4B4C-B3A3-42FD01EB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77FA-D0DB-4597-8A7E-B024874E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34F7-8BBA-473B-98D2-59FF028B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DC382B-106F-49C8-88BD-6A91DE82DF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